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44D7-680D-40D5-92AC-7994EC878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Educ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 Trai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having the same ethical way in any situation or place; being your best self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having the same ethical way in any situation or place; being your best 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of integrity stands up for his/her beliefs about what is right and what is wro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of integrity stands up for his/her beliefs about what is right and what is wr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of integrity shows commitment, courage, and self-discip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of integrity shows commitment, courage, and self-discip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of integrity doesn’t get involved in things that he/she thinks are wrong, even under social pressu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of integrity doesn’t get involved in things that he/she thinks are wrong, even under social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 honorable yourself if you wish to associate with honorable peopl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elsh Prover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 honorable yourself if you wish to associate with honorable peop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elsh Pro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looks outside, dreams; who looks inside, awak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Carl Ju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looks outside, dreams; who looks inside, awak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Carl J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iendship with oneself is all-important, because without it one cannot be friends with anyone els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Eleanor Roosevel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iendship with oneself is all-important, because without it one cannot be friends with anyone e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leanor Rooseve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better to be hated for what you are than to be loved for what you are no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ndre Gi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better to be hated for what you are than to be loved for what you are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ndre G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ose people who are uncomfortable in themselves are disagreeable to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illiam Hazlit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se people who are uncomfortable in themselves are disagreeable to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illiam Hazli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lind Woman and the Physician.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ind Woman and the Physician.”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Aes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ing honest and reliable in carrying out commitments, duties, and oblig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ing honest and reliable in carrying out commitments, duties, and oblig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 Do you think that the woman owes the physician anything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Do you think that the woman owes the physician anyth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 Have you ever felt taken advantage of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Have you ever felt taken advantage of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 Why is it wrong to take advantage of othe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Why is it wrong to take advantage of oth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.  Would you consider someone who takes advantage of others trustworth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Would you consider someone who takes advantage of others trustwort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  How can you avoid taking advantage of other peopl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Questions for “The Blind Woman and the Physicia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How can you avoid taking advantage of other peop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ways return items I have borrow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return items I have borrow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others count on me to do what I say I will d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others count on me to do what I say I will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worthiness Wo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nes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gr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yal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liabilit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mi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s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put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mit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lig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ut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d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id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worthiness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nes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li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yal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ing it a responsibility to promote and protect the interests of people and associa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Definition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ing it a responsibility to promote and protect the interests of people and associ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oyal person supports and protects family, friends, community, and countr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oyal person supports and protects family, friends, community, and count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m is loyal doesn’t gossip or talk behind the backs of othe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m is loyal doesn’t gossip or talk behind the backs of oth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erson who is loyal doesn’t violate ethical principles and doesn’t ask a friend to engage in wrongful activit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yalty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erson who is loyal doesn’t violate ethical principles and doesn’t ask a friend to engage in wrongful activ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33FA-2630-4E4D-A733-6DD0B515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4C54-C0BA-42B3-B1C1-1DDCC3C5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726F-F05B-4FAF-B3C9-19B2633D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F089-A0FF-4F38-A664-8DD29710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9163A-D7A5-4269-AEC1-064D2382F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801F0E-6AA9-42E9-900B-36FA07F6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626144-388A-41EC-970F-9235AE75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A4D57B-9A57-432B-BE55-B431EFEB8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06B61E-B5EA-45A2-89C4-D59C11E2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5FA6D-8410-4AA5-B0AE-AEE81330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D0ACFD-9D0B-411B-9DFF-F1BB8EF6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D5E6-C33C-4C7B-8B9E-2577667A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AA7FB2-6941-40D7-9D45-0AA3E279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365A0-C98B-4F16-99FB-9E160E8D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452419-9B8C-4B27-8101-954D4D2F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4B51C-40D2-4844-BC2D-5E453ACCF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3231A-5AE3-419F-AB6C-2BD4ECF1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55CF-3A5E-440E-BDBE-58B4C90A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766A-7E83-4262-BAEA-EAB648BE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D5B8-E9B8-453A-99EA-4944DC44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6AC9-0358-4AD4-BE9F-375180E2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A01F-886E-44F7-8F94-D5C4F664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2428-359A-4493-BD55-10452A5EB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EA2D-258F-4A9C-9DDC-102DC6F2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3F15-F759-46F9-8112-E55DC474B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F3FA-0BCB-4B8E-9AE8-1F3A1D10BE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Anderson's Character Development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530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haracter Education</a:t>
            </a:r>
            <a:br>
              <a:rPr sz="5400"/>
            </a:b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Mr. Anderson</a:t>
            </a:r>
            <a:br>
              <a:rPr sz="5400"/>
            </a:br>
            <a:br>
              <a:rPr sz="5400"/>
            </a:b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haracter Trait</a:t>
            </a:r>
            <a:br>
              <a:rPr sz="5400"/>
            </a:b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Trustworthines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Integrity Definition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ehaving the same ethical way in any situation or place; being your best self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3" name="Picture 5" descr="j0183168"/>
          <p:cNvPicPr/>
          <p:nvPr/>
        </p:nvPicPr>
        <p:blipFill>
          <a:blip r:embed="rId1"/>
          <a:stretch/>
        </p:blipFill>
        <p:spPr>
          <a:xfrm>
            <a:off x="3733920" y="3962520"/>
            <a:ext cx="1901880" cy="16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tegri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280" y="17524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of integrity stands up for his/her beliefs about what is right and what is wrong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6" descr="j0183168"/>
          <p:cNvPicPr/>
          <p:nvPr/>
        </p:nvPicPr>
        <p:blipFill>
          <a:blip r:embed="rId1"/>
          <a:stretch/>
        </p:blipFill>
        <p:spPr>
          <a:xfrm>
            <a:off x="5716440" y="3014640"/>
            <a:ext cx="190188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tegri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of integrity shows commitment, courage, and self-disciplin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6" descr="j0183168"/>
          <p:cNvPicPr/>
          <p:nvPr/>
        </p:nvPicPr>
        <p:blipFill>
          <a:blip r:embed="rId1"/>
          <a:stretch/>
        </p:blipFill>
        <p:spPr>
          <a:xfrm>
            <a:off x="5792760" y="2862360"/>
            <a:ext cx="190188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Integri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of integrity doesn’t get involved in things that he/she thinks are wrong, even under social pressure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4" descr="j0183168"/>
          <p:cNvPicPr/>
          <p:nvPr/>
        </p:nvPicPr>
        <p:blipFill>
          <a:blip r:embed="rId1"/>
          <a:stretch/>
        </p:blipFill>
        <p:spPr>
          <a:xfrm>
            <a:off x="5792760" y="2862360"/>
            <a:ext cx="190188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Quo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e honorable yourself if you wish to associate with honorable peop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Welsh Prover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Quo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looks outside, dreams; who looks inside, awak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Carl Ju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Quo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riendship with oneself is all-important, because without it one cannot be friends with anyone el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Eleanor Roosevel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Quo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 is better to be hated for what you are than to be loved for what you are no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Andre G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Quote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ose people who are uncomfortable in themselves are disagreeable to other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William Hazlit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he Blind Woman and the Physician.”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-Aesop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rustworthiness Definition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Being honest and reliable in carrying out commitments, duties, and obligations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1" name="Picture 7" descr="j0300840"/>
          <p:cNvPicPr/>
          <p:nvPr/>
        </p:nvPicPr>
        <p:blipFill>
          <a:blip r:embed="rId1"/>
          <a:stretch/>
        </p:blipFill>
        <p:spPr>
          <a:xfrm>
            <a:off x="3733920" y="3581280"/>
            <a:ext cx="181440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iscussion Questions for “The Blind Woman and the Physicia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32004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1.  Do you think that the woman owes the physician anything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iscussion Questions for “The Blind Woman and the Physicia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32004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2.  Have you ever felt taken advantage of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iscussion Questions for “The Blind Woman and the Physicia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66320" y="32004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3.  Why is it wrong to take advantage of other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iscussion Questions for “The Blind Woman and the Physicia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6320" y="32004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.  Would you consider someone who takes advantage of others trustworth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0592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Discussion Questions for “The Blind Woman and the Physician</a:t>
            </a: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66320" y="32004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5.  How can you avoid taking advantage of other peopl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ustworthiness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lways return items I have borrowed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9" descr="j0300840"/>
          <p:cNvPicPr/>
          <p:nvPr/>
        </p:nvPicPr>
        <p:blipFill>
          <a:blip r:embed="rId1"/>
          <a:stretch/>
        </p:blipFill>
        <p:spPr>
          <a:xfrm>
            <a:off x="5759280" y="3083040"/>
            <a:ext cx="181476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ustworthiness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2120" y="1904760"/>
            <a:ext cx="47656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others count on me to do what I say I will d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10" descr="j0300840"/>
          <p:cNvPicPr/>
          <p:nvPr/>
        </p:nvPicPr>
        <p:blipFill>
          <a:blip r:embed="rId1"/>
          <a:stretch/>
        </p:blipFill>
        <p:spPr>
          <a:xfrm>
            <a:off x="5105520" y="3083040"/>
            <a:ext cx="246852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ustworthiness Word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nes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ntegr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yal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liabilit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mis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s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4976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put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it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blig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th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and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fid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0062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Loyalty Definition: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Making it a responsibility to promote and protect the interests of people and associations.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2" name="Picture 3" descr="j0216724"/>
          <p:cNvPicPr/>
          <p:nvPr/>
        </p:nvPicPr>
        <p:blipFill>
          <a:blip r:embed="rId1"/>
          <a:stretch/>
        </p:blipFill>
        <p:spPr>
          <a:xfrm>
            <a:off x="3200400" y="342900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oyal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loyal person supports and protects family, friends, community, and country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10" descr="j0216724"/>
          <p:cNvPicPr/>
          <p:nvPr/>
        </p:nvPicPr>
        <p:blipFill>
          <a:blip r:embed="rId1"/>
          <a:stretch/>
        </p:blipFill>
        <p:spPr>
          <a:xfrm>
            <a:off x="5942160" y="2935440"/>
            <a:ext cx="2363760" cy="27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oyal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m is loyal doesn’t gossip or talk behind the backs of other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6" descr="j0216724"/>
          <p:cNvPicPr/>
          <p:nvPr/>
        </p:nvPicPr>
        <p:blipFill>
          <a:blip r:embed="rId1"/>
          <a:stretch/>
        </p:blipFill>
        <p:spPr>
          <a:xfrm>
            <a:off x="5942160" y="2935440"/>
            <a:ext cx="221112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Loyalty Exampl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476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person who is loyal doesn’t violate ethical principles and doesn’t ask a friend to engage in wrongful activiti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j0216724"/>
          <p:cNvPicPr/>
          <p:nvPr/>
        </p:nvPicPr>
        <p:blipFill>
          <a:blip r:embed="rId1"/>
          <a:stretch/>
        </p:blipFill>
        <p:spPr>
          <a:xfrm>
            <a:off x="5942160" y="2935440"/>
            <a:ext cx="2211120" cy="23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4T02:55:25Z</dcterms:created>
  <dc:creator>OKCPS</dc:creator>
  <dc:description/>
  <dc:language>en-US</dc:language>
  <cp:lastModifiedBy>RomaK</cp:lastModifiedBy>
  <dcterms:modified xsi:type="dcterms:W3CDTF">2015-09-02T09:36:26Z</dcterms:modified>
  <cp:revision>8</cp:revision>
  <dc:subject/>
  <dc:title>Character Education Trustworthiness</dc:title>
</cp:coreProperties>
</file>